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3FE-1158-4CBD-A3CE-0CABFD6F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E0C-B347-4C97-8A18-40CAAB5F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E62-1A64-425A-88BB-4B7C303F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D09-ED9B-410A-9573-D4E93BCA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4C2B-223E-4D01-8060-25278402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5DD7-8345-4708-AB6B-35CCF2D8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2C8C-8341-4A91-A71D-BC3A17B5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12C3-DFC8-4F24-A617-909A9486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A5B8-251E-4B8E-AB0C-92BB24BC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FA07-80CF-401C-90ED-6C26021B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0F5B-E3F1-4246-ABDB-4484B767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0F5-52BF-4ADB-B7FD-129A3886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BB1E-320D-4D36-84F3-5EC14BD7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D1E2-5CCC-4925-B70F-8D3C98BF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7656-9D82-4FF4-A3CC-68EE7FFA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15BF-8CC8-4889-B729-2586FFFB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BEF6-7E83-4D30-9FAD-129C5108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465-78C3-40E6-97C5-B03A2669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3EF-2F1E-4ED9-B78B-A25013E6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EA2-D81A-4F82-B2E5-D99525E0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895-1D0C-4E26-B862-195D262C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A65-4E68-4313-8473-48850574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252-4C7C-47B7-839D-524FC8E1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F26-60BA-4846-BEDB-66DF414D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056E0-66D4-4011-9EB8-526AEB763E5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"/>
          <p:cNvPicPr/>
          <p:nvPr/>
        </p:nvPicPr>
        <p:blipFill>
          <a:blip r:embed="rId2"/>
          <a:stretch/>
        </p:blipFill>
        <p:spPr>
          <a:xfrm>
            <a:off x="8675640" y="-9360"/>
            <a:ext cx="442800" cy="4474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-36000" y="6599160"/>
            <a:ext cx="599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Ephraim Ferreira Medeiros – Curso GRATUITO – BASES DA MTC www.acupunturabrasil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086600" y="6648480"/>
            <a:ext cx="289080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33756-914C-4022-8F13-8C34EDE291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172200" cy="5029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2743200" y="4572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80"/>
                </a:solidFill>
                <a:latin typeface="Arno Pro"/>
              </a:rPr>
              <a:t>Desde 199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Roboto Condensed"/>
              </a:rPr>
              <a:t>Cicl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Os Elementos sucessivos nutrem-se mutuamente, enquanto os relacionamentos intermediários impõem restrição e constrição e trabalham para prevenir desequilíb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Ciclo de Geração (Ciclo Shen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uma análise simples de evolução onde depois do nascimento vem a infância, a adolescência, a maturidade e a velhice respectivamente, fica fácil de se entender que um elemento gera o outro e conseqüentemente é ger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7164360" y="907920"/>
            <a:ext cx="153360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Ciclo de Geração (Ciclo She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5160"/>
                <a:tab algn="l" pos="10512360"/>
                <a:tab algn="l" pos="1051416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 forma dizemos que Madeira é mãe de Fogo e filha de Água surgindo aí a Regra Mãe-Filho, muito importante na seleção dos pontos. A tonificação da Mãe gera a tonificação do Filho e a sedação do Filho gera a sedação da Mã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7236000" y="1125360"/>
            <a:ext cx="153324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8520" y="2599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Ciclo de Controle (Ciclo K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7931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ciclo de controle também conhecido como ciclo de dominação é a maneira pela qual a manifestação (energia) é contida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relacionamentos de geração e controle mútuos entre os Elementos são um bom modelo de alguns processos auto-reguladores de equilíbrio que podem ser encontrados na Natureza e no organ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7572240" y="476280"/>
            <a:ext cx="15717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Roboto Condensed"/>
              </a:rPr>
              <a:t>Contradominânc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Existe também a relação onde o elemento dominado passa a se rebelar contra o dominador, onde teremos a Madeira lesando Metal, Metal lesando Fogo, Fogo lesando Água, Água lesando Terra, Terra lesando Madeira. Está é uma relação anormal, patológica, diferente do Ciclo Shen e K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ÁGUA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Inverno, Rins e Força de Vont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O Elemento Água representa a energia Qi em seu estado mais consolidado e essencial. Como a semente de uma planta ele contem em si o potencial do desenvolvimento e da continuidade da vi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ÁGUA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Inverno, Rins e Força de Vont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Roboto Condensed"/>
              </a:rPr>
              <a:t>Do ponto de vista arquetípico, seu principal propósito é ser e permanecer, como o instinto de sobrevivência, o dese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Roboto Condensed"/>
              </a:rPr>
              <a:t>Os principais órgãos associados ao Elemento Água são os Rins. “Os Rins chamam à vida o que está dormente e selado; eles são os órgãos naturais de abastecimento e o local onde as secreções estão contidas.” ( O Livro do Imperador Amarelo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ÁGUA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Inverno, Rins e Força de Vont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Os Rins, além disso, abrigam o aspecto da psique conhecido como a Vontade (Zhi) – o “espírito” do qual extraímos a força de vontade, o vigor e a sede de vi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ÁGUA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Inverno, Rins e Força de Vont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Sabedoria é a mais alta expressão do Elemento Água. A Sabedoria nasce da Mente que possui um firme fundamento – o resultado da Vontade (Zhi) que é profundamente arraigado e serenamente criterio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ADEIRA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Primavera, Fígado e Alma Eté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O elemento Madeira representa a energia Qi que se expande e ascende como o broto de uma planta, incorpora o crescimento ativo. Nesta fase, a força vital latente em Água está desperta e toma direção; a Vontade (Zhi) dos Rins é canalizado com um senso de propós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1"/>
          <p:cNvSpPr/>
          <p:nvPr/>
        </p:nvSpPr>
        <p:spPr>
          <a:xfrm>
            <a:off x="407880" y="2403360"/>
            <a:ext cx="8186760" cy="1470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O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</a:rPr>
              <a:t>Curso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Bases da Medicina Tradicional Chinesa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é um curso teórico e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</a:rPr>
              <a:t>inteiramente gratuito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para assistir e baixar o material.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Caso você deseje receber um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</a:rPr>
              <a:t>certificado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 após completar esse curso é preciso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</a:rPr>
              <a:t>pagar uma taxa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que inclui uma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</a:rPr>
              <a:t>avaliação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 (prova de multipla escolha e talvez outras atividades) e a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</a:rPr>
              <a:t>emissão de certificado 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que só é feita caso você consiga aproveitamento acima de 70% na avaliação. Caso não alcance esse aproveitamento é enviada mais uma prova e observações para estudo de reforço. 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Para informação sobre atualizada sobre o custo da Certificação (certificado de CURSO LIVRE com 25 horas) visite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</a:rPr>
              <a:t>www.acupunturabrasil.org</a:t>
            </a:r>
            <a:r>
              <a:rPr b="0" lang="en-US" sz="2500" spc="-1" strike="noStrike">
                <a:solidFill>
                  <a:srgbClr val="000000"/>
                </a:solidFill>
                <a:latin typeface="Roboto Condensed"/>
              </a:rPr>
              <a:t> ou entre em contato direto com o professor Ephraim F. Medeiros via telegram </a:t>
            </a:r>
            <a:r>
              <a:rPr b="1" lang="en-US" sz="2500" spc="-1" strike="noStrike">
                <a:solidFill>
                  <a:srgbClr val="000000"/>
                </a:solidFill>
                <a:latin typeface="Roboto Condensed"/>
              </a:rPr>
              <a:t>@Ephraimmedeir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ADEIRA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Primavera, Fígado e Alma Eté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boto Condensed"/>
              </a:rPr>
              <a:t>O elemento Madeira na natureza está aparente não somente na chegada da Primavera, mas também no processo global da evolução. Supervisionando os ciclos e os ritmos do corpo, ele governa nossa necessidade de desenvolvimento e a capacidade de adaptação. Num nível básico, o elemento Madeira está, portanto, relacionado com o Movimento – com motivação, crescimento e com o harmonioso fluxo da v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ADEIRA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Primavera, Fígado e Alma Eté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O principal órgão do elemento Madeira é o Fíg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O Fígado tem a função de um líder militar que se destaca em seu planejamento estratégico... ele é a residência da alma ou a parte espiritual do homem.” (O livro do imperador amarel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ADEIRA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Primavera, Fígado e Alma Eté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Assim como os Rins abrigam a Vontade (Zhi), o Fígado prove residência da Alma Etérea (Hun) – o sutil e expansivo aspecto da psique que relaciona a mente individual com a Mente Universal. A fonte de nossos sonhos e visões, nós obtemos da Alma Etérea o senso de propósito e a direção na vi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ADEIRA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Primavera, Fígado e Alma Eté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A Alma Etérea (Hun) providencia à mente com o movimento e com adaptabilidade, permitindo a ambos a capacidade da instropecção e com o poder de projetá-lo ao exterior. Assim, como o Fígado, ele possui a função reguladora auxiliando a manter o equilíbrio emocional freando os extremos de excitação e de inérci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ADEIRA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Primavera, Fígado e Alma Eté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Como fundação da Alma Etérea, o Fígado é chamado de “órgão de resolução” – o armazém do propósito, da decisão e da coragem. Ele é o planejador, o organizador e aventureiro dentro de todos nó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FOGO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 Verão, Coração e 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O elemento FOGO é a expressão da energia Qi em sua máxima exuberância e como a flor, protótipo do esplendor, da atração e auto-realizaçã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FOGO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 Verão, Coração e 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Enquanto o elemento Água é a fonte de nossa direção básica, canalizada e direcionada pela Madeira, o elemento Fogo providencia um “sentido do senso” de ideal – um meio de reconhecimento que verdadeiramente nos satisfaz. Sem isso, podemos ter energia e propósito, mas faltará o auto-entendimento para o sucesso em encontrar aleg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FOGO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 Verão, Coração e 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O órgão central do elemento Fogo é o Coração. “O Coração é como o ministro do rei que se destaca pela argúcia e entendimento... é a base da vida e a causa versatilidade das faculdades espirituais.” (O livro do imperador amare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FOGO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 Verão, Coração e 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Além de seu papel de circular e “governar” o sangue, o Coração é a residência da Mente (Shen) – da supra-consciência em todas as formas. Dirigindo a função do pensar, do sentir, da memória e da imaginação, o Shen é o foco de toda atividade mental e a fonte da auto-consciê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FOGO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 Verão, Coração e 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Como a fonte da harmonia emocional, é também através do Coração que experienciamos o calor me a ternura. Como o coração tem sido sempre um símbolo de amor, assim, de acordo com a Medicina Oriental ele é o órgão do amor e da afeição – como o receptor e o doador da amabilidade emo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Movi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84360" y="494136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sa apresentação usa trechos adaptados do texto original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R O M A T H E R A P 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HEALING THE SPIRIT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abriel Moj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dução Emilia Kiyohara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visão Ephraim F. Medei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97400" y="270828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phraim Ferreira Medei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2820960" cy="28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FOGO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 Verão, Coração e 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A maioria dos problemas psicológicos implicará, subseqüentemente, pelo menos em alguns níveis, um desequilíbrio dentro do elemento Fo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FOGO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 Verão, Coração e 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boto Condensed"/>
              </a:rPr>
              <a:t>O entusiasmo e a espontaneidade que reflete o Coração em harmonia pode tornar-se, quando sob estresse, uma sensação de nervosismo e agitação. Além disso, a sensitividade natural e a paixão do elemento Fogo, caso ele se incendeie fora de controle, pode resultar em um indivíduo que facilmente torna-se super-excitado e rapidamente ofensivo. A exaustão nervosa e a insônia são freqüentemente as conseqüê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FOGO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 Verão, Coração e 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7600" indent="-324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O amor é a máxima expressão do elemento Fogo. O verdadeiro amor irradia-se do centro do nosso ser e tem a qualidade de um abraço ou sorri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7600" indent="-324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O amor possui o poder de restaurar a fé e a harmonia e tem sido o ensinamento fundamental de muitos mestres espirit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TERRA –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Verão tardio, Baço-Pâncreas e Intel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O elemento Terra representa a energia Qi num modo formativo e de concretização e diz respeito à geração e a manutenção da forma física. Como os frutos de uma planta, o elemento Terra incorpora nutrição e abundância, o amadurecimento da força da vida dentro do palpável e sustentá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TERRA –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Verão tardio, Baço-Pâncreas e Intel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Ele é apoiado nesse processo pelo poder de absorver e transformar, e associado no nível mental com o aprender, o pensar e à análise. De acordo com o Ciclo de Criação dos Cinco Elementos, o elemento Terra segue-se ao Fogo – refletindo seu papel de prover a Mente (Shen) com a capacidade de concretizar os pensa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TERRA –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Verão tardio, Baço-Pâncreas e Intel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Os órgãos associados com o elemento Terra são o Baço-Pâncreas e o Estômago. “Esses órgãos influenciam os lábios e a forma da carne e dos músculos. O sabor relacionado com esses órgãos é o doce e a cor, o amarelo.” (O livro do imperador amarel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TERRA –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Verão tardio, Baço-Pâncreas e Intel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Dos cinco “espíritos”, o Baço abriga o Intelecto (Yi), o aspecto da psique responsável pelo pensamento, concentração, estudo e memorização. Assim como os órgãos do elemento Terra supervisionam a digestão dos alimentos, o Intelecto relaciona-se com a absorção e análise das idéias e das informaçõ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TERRA –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Verão tardio, Baço-Pâncreas e Intel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Essencialmente nutridor, no nível emocional, o elemento Terra está associado com afeto, apoio, simpatia e questões de confiança e comunidade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ETAL –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Outono, Pulmões e Alma Corpóre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O elemento Metal representa o intercâmbio e a síntese da energia Qi. As funções das folhas de uma planta dão um bom exemplo dessa atividade, incorporando, como exercem esse processo de transpiração e fotossíntese – o intercâmbio de gases vitais e a transmutação da luz solar em energia nutriti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ETAL –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Outono, Pulmões e Alma Corpóre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Como elemento da troca dinâmica e da interação – e da extração da energia do ambiente – Metal está também relacionado com o conceito de limite. Ele é a “pele” física e metafórica através da qual nós acolhemos e libera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409680"/>
            <a:ext cx="3970440" cy="1922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ÁGU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boto Condensed"/>
              </a:rPr>
              <a:t>O primeiro dos Cinco Elementos – Água – pode ser entendido como uma energia condensada e relativamente estática (yin fase) refletindo a dormência do Inverno e a no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boto Condensed"/>
              </a:rPr>
              <a:t>Embora Água represente um estado “flutuante” de descanso, ela contém em si o potencial do crescimento e da regeneração. É por este motivo associado como a verdadeira origem da vida – com a força procriadora e o desejo da sobrevivê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3500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ETAL –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Outono, Pulmões e Alma Corpóre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Os principais órgãos do elemento Metal são os Pulmões. “Os Pulmões são a origem da respiração e a residência do espírito animal ou alma inferior. Os Pulmões influenciam os pêlos do corpo e tem efeito sobre a pele.” (O livro do imperador amarel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ETAL –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Outono, Pulmões e Alma Corpóre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Como órgãos centrais da respiração, os Pulmões são ditos como “governo” do Qi, inalando o “Qi puro” do ar e exalando o “Qi sujo” do metabolismo. Eles são responsáveis, além disso, pela síntese do Qi nutritivo e defensivo formado pela fusão do Qi do ar e dos alimen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ETAL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Outono, Pulmões e Alma Corpóre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O papel do Qi nutritivo é sustentar e nutrir e é distribuído pelos Pulmões por todo os órgãos do corpo (via meridianos); o Qi defensivo é espalhado pela periferia do corpo para protegê-lo da invasão dos agentes patogên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Os Pulmões são cruciais, portanto, para assegurar a vitalidade do corpo e da 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ETAL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Outono, Pulmões e Alma Corpóre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Enquanto o Fígado é dito como a casa da Alma Etérea (Hun), os Pulmões dão residência à Alma Corpórea (Po). O Po é o aspecto corporal ou animal da alma humana e forma o físico, a contraparte mais yin do H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ETAL –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Outono, Pulmões e Alma Corpó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A Alma Corpórea é primariamente instintiva e sensorial por natureza e nos dá a capacidade para as sensações físicas e ao toque, bem como para o paladar, o olfato, visão e a audição. Ele também proporciona um sexto sentido como o dos animais que auxilia a realizar, num nível sutil, a função protetora do elemento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ETAL –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Outono, Pulmões e Alma Corpóre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1200" indent="-331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boto Condensed"/>
              </a:rPr>
              <a:t>Vivendo como ele faz no presente, a Alma Corpórea é afetada, em particular, por sentimentos de lástima, remorso e a persistente sensação de perda. Essas emoções, por sua vez, podem obstruir a ordenada função rítmica dos Pulmões de “tomar” e “soltar”, refletindo uma inabilidade psicológica para a aceitação e renúncia integral. A Alma Corpórea que está contraída pela persistente sensação de pesar pode resultar em fadiga crônica e dificuldades respirató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1640" y="69228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ETAL – </a:t>
            </a:r>
            <a:r>
              <a:rPr b="0" lang="pt-BR" sz="4000" spc="-1" strike="noStrike">
                <a:solidFill>
                  <a:srgbClr val="000000"/>
                </a:solidFill>
                <a:latin typeface="Roboto Condensed"/>
              </a:rPr>
              <a:t>Outono, Pulmões e Alma Corpó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789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Em geral, o elemento Metal em harmonia promove a ordem, a comunicação e a positividade; enquanto que sob stress pode resultar em constrangimento, retração e pessim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0" y="-369720"/>
            <a:ext cx="4114800" cy="1922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ADEIR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É indicativo da energia em ascensão e aceleração (yang fase), como um senso de despertar que vem com a Primavera e a manhã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Neste estágio de transformação, as forças contidas e latentes da Água são incitadas e ganham direção. O Elemento Madeira é freqüentemente associado com movimento e evolu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720" y="-406440"/>
            <a:ext cx="3178080" cy="1922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FOGO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Símbolo da energia mais expansiva e radiante, de yang no seu auge. Ele é o Elemento do Verão e do meio d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Fogo toma a urgência do movimento da Madeira e a evolui, dando-lhe a razão de ser – um senso de ide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Por ser uma energia muito refinada e sensitiva, ele á associada com a atenção consciente e a auto-identid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92720" y="-382680"/>
            <a:ext cx="3851280" cy="192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TER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boto Condensed"/>
              </a:rPr>
              <a:t>Energia em seu estágio yin descendente, num movimento generalizado em direção à forma materializ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boto Condensed"/>
              </a:rPr>
              <a:t>Terra é predominante no Verão tardio e no início do Outono, “a estação da rica produtividade” e durante a tar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boto Condensed"/>
              </a:rPr>
              <a:t>Ele toma o ideal inerente do Fogo tornando-o real, impregnando a intenção com a concretização, o espírito com a forma corpo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651280" y="-369720"/>
            <a:ext cx="3035160" cy="1922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Roboto Condensed"/>
              </a:rPr>
              <a:t>MET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Energia em coligação e sintetização da fase yin de transformaçã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Metal toma a natureza formativa de Terra e a refina, adicionando ordem e definiçã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A estação de Metal é Outono e a noite, período de aquiescência e reflexã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boto Condensed"/>
              </a:rPr>
              <a:t>O Elemento Metal é também associado com a urgência de integração e a necessidade de manter distâ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Os Cinco Elementos não são nem isolados e nem sólidos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boto Condensed"/>
              </a:rPr>
              <a:t>Eles são fases de um processo energético contínuo que podemos observar potencialmente em todos os aspectos da vi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4:33:28Z</dcterms:created>
  <dc:creator>Pessoal</dc:creator>
  <dc:description/>
  <dc:language>en-US</dc:language>
  <cp:lastModifiedBy>微软用户</cp:lastModifiedBy>
  <dcterms:modified xsi:type="dcterms:W3CDTF">2020-10-04T15:34:16Z</dcterms:modified>
  <cp:revision>11</cp:revision>
  <dc:subject/>
  <dc:title>5 Elementos</dc:title>
</cp:coreProperties>
</file>